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8.wmf" ContentType="image/x-wmf"/>
  <Override PartName="/ppt/media/image9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1.jpeg" ContentType="image/jpeg"/>
  <Override PartName="/ppt/media/image7.png" ContentType="image/png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01652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70596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01652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BF51E1D-4315-452E-B1D9-5AAFDEFA6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12E9DC3-DB2E-4A9A-BB05-44E486F12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F12EAB3-0B08-42BF-94BB-8D2CA448E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BBFCB4B-C0E3-4CDF-AE3C-A5683F02E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013243-0195-4AC7-A03A-437D79382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18B5EA3-E637-4D25-AF0E-7C3891936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1D4712D-2E7B-4730-85E1-9095B8047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380A8D-38A0-40A9-82CC-2F04D653A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AFB3859-2D77-4A5B-809D-CD4A48640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0C88985-72DE-44E1-89FB-FE8E4D146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B8EDB2E-B818-453D-AEFA-2581B4830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CB4966-026B-4659-A94A-7FC9CE8CC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6BF2D1B-7862-4248-96C6-406DBD8FE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FA1DC9-B063-4DD4-948D-1AB4359F9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AEE8660-DE0C-41A9-8F72-A2F525DED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0A7A05-788D-4EDE-982D-CAB89D58E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647A871-BD1A-47D1-BB65-0E581D7FE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4CFB378-3DCB-4FCA-AD92-D72FF606A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152AB05-3EB9-43BC-ACEE-FD5790C5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D33354D-1412-4FC7-8FD7-4684F5BEE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DED30CA-C476-4E75-9C92-E1DF414D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4574-0F31-40D1-9213-38E89289C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5ACA-A0C3-442E-AE5B-7531CECF0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8AE8-6077-4F31-8DA0-63128816C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D621-CA03-4F84-B1A3-81C6FA394A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93CC-76B9-4E71-B538-7BB37665A0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9A5D-B2F0-4343-ABD4-DA876ADA6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BA5C-BF0C-4BCB-905E-342FE6F9B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5509-D568-40A9-8F5F-0CC56B174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6C0B-F32F-444E-BEEA-9BD069384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7CC0-830D-4AF6-AC42-31E59AAA7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DF35-208B-476F-8C68-403CE6F56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12DA-266D-4654-823D-3A697A060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2108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BFD5-CFB5-491B-B5CC-3ADFA0BD622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file:///tmp/home/.config/libreoffice/4/user/gallery/MS900075011%5B1%5D.wav" TargetMode="External"/><Relationship Id="rId3" Type="http://schemas.microsoft.com/office/2007/relationships/media" Target="file:///tmp/home/.config/libreoffice/4/user/gallery/MS900075011%5B1%5D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6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F5D3-DB22-493C-AE2F-8E28116BCE1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281240" y="2246400"/>
            <a:ext cx="7862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y should you care about power, politics, and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>
            <a:off x="1092240" y="596880"/>
            <a:ext cx="23760" cy="626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32080" y="454032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ease take a sheet of paper and write a 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ntence response to this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9800" y="62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5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your text, please define the terms on the handout and provide an example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31800" y="1922400"/>
            <a:ext cx="6018480" cy="4095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4680" y="1544760"/>
            <a:ext cx="6197400" cy="3341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35120" y="4800600"/>
            <a:ext cx="59292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14520" y="1474920"/>
            <a:ext cx="5794200" cy="1912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55920" y="3381480"/>
            <a:ext cx="59734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77880" y="1460520"/>
            <a:ext cx="5929560" cy="2171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92280" y="3627360"/>
            <a:ext cx="592920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601560"/>
            <a:ext cx="3352680" cy="625644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, Politics, and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3CB1-6BAC-4446-BBE2-A80FD75602C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470400" y="781200"/>
            <a:ext cx="540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“Power, Politics and You” section of the chapter on page 16 and 17. Then respond to the following ques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00025968&amp;Stretch=False&amp;Size=600"/>
          <p:cNvPicPr/>
          <p:nvPr/>
        </p:nvPicPr>
        <p:blipFill>
          <a:blip r:embed="rId1"/>
          <a:srcRect l="7559" t="0" r="45946" b="7501"/>
          <a:stretch/>
        </p:blipFill>
        <p:spPr>
          <a:xfrm>
            <a:off x="295200" y="893880"/>
            <a:ext cx="2720880" cy="35258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38" name="Text Box 7"/>
          <p:cNvSpPr/>
          <p:nvPr/>
        </p:nvSpPr>
        <p:spPr>
          <a:xfrm>
            <a:off x="3552840" y="3106800"/>
            <a:ext cx="494964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Alvin Toffler, what are the three kinds of power? Give an example of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se three kinds is the highest quality of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should you care about knowledge as a kind of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9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Kinds of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ledge is the highest quality of power and also the most democratic (anyone can learn and underst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6097-F8CF-439E-B487-FE31DBAE853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463920" y="781200"/>
            <a:ext cx="5680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 group of 3, read the  quotations about pow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ign each quotation a “truth ranking” from 1 to 5 (1 = never true, 5 = always tru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the quote that you like best and explain why.  (Pick a presen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295200" y="893880"/>
            <a:ext cx="2720880" cy="35352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4"/>
          <p:cNvSpPr/>
          <p:nvPr/>
        </p:nvSpPr>
        <p:spPr>
          <a:xfrm>
            <a:off x="7763400" y="251928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154800" y="164160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1"/>
          <p:cNvSpPr/>
          <p:nvPr/>
        </p:nvSpPr>
        <p:spPr>
          <a:xfrm>
            <a:off x="605520" y="2373480"/>
            <a:ext cx="790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ur scientific power has outrun our spiritual po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have guided missiles and misguided m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5266440" y="3708360"/>
            <a:ext cx="326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Martin Luther King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f7f7f"/>
                </a:solidFill>
                <a:latin typeface="Arial"/>
              </a:rPr>
              <a:t>Strength to Love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, 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2FBC-6EA3-49B2-BA5F-6183F7B88F55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4"/>
          <p:cNvSpPr/>
          <p:nvPr/>
        </p:nvSpPr>
        <p:spPr>
          <a:xfrm>
            <a:off x="6968160" y="251928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1865880" y="164160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1769760" y="2368440"/>
            <a:ext cx="55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 tends to corrupt, and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solute power corrupts absolute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2801520" y="3708360"/>
            <a:ext cx="57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Lord A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f7f7f"/>
                </a:solidFill>
                <a:latin typeface="Arial"/>
              </a:rPr>
              <a:t>Letter to Bishop Mandell Creighton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, 18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6506-1D12-46DA-8A5F-42373628E44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608040"/>
            <a:ext cx="3352680" cy="625320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565440" y="838080"/>
            <a:ext cx="5245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se steps to complete a “personal power assessme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48EB-6DA8-4A47-8CA6-50C44879F32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0" y="54468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3470400" y="2117880"/>
            <a:ext cx="5456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list of all the individuals and institutions,  that have power over you. For each item, briefly describe how it has power over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make a list of all the individuals and institutions in which you have power. For each item, briefly describe how you have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254880" y="898560"/>
            <a:ext cx="333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– 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Jurac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. Colum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Tor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se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,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– Qu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4"/>
          <p:cNvSpPr/>
          <p:nvPr/>
        </p:nvSpPr>
        <p:spPr>
          <a:xfrm>
            <a:off x="8247600" y="28479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302400" y="149400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410400" y="2260440"/>
            <a:ext cx="8331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not power that corrupts but fear. Fear of los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 corrupts those who wield it and fear of 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ourge of power corrupts those who are subject to i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3701160" y="3976560"/>
            <a:ext cx="48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Aung San Suu Ky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reedom from fear” speech,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8274-4414-4C4D-A1E2-383A097CF12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4"/>
          <p:cNvSpPr/>
          <p:nvPr/>
        </p:nvSpPr>
        <p:spPr>
          <a:xfrm>
            <a:off x="7884000" y="23637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414000" y="18651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909360" y="2610000"/>
            <a:ext cx="733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litical power grows out of the barrel of a gu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6648480" y="3708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Mao Zed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AC6B-9F86-4094-A848-E1ED8D01EB66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4"/>
          <p:cNvSpPr/>
          <p:nvPr/>
        </p:nvSpPr>
        <p:spPr>
          <a:xfrm>
            <a:off x="8247600" y="28479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380160" y="149400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296280" y="2260440"/>
            <a:ext cx="84376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ve all, we must realize that no arsenal, or 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apon in the arsenals of the world, is so formid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 the will and moral courage of free men and wom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4358520" y="3976560"/>
            <a:ext cx="41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Ronald Rea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irst Inaugural Address, 1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DCBB-2052-4B91-9A2A-A7426C23DFA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4"/>
          <p:cNvSpPr/>
          <p:nvPr/>
        </p:nvSpPr>
        <p:spPr>
          <a:xfrm>
            <a:off x="8074800" y="28479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230760" y="113508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395640" y="1863720"/>
            <a:ext cx="83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I despair, I remember that all through histor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ways of truth and love have always won. Ther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ve been tyrants, and murderers, and for a time the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seem invincible, but in the end they always fai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5866200" y="39765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Mohandas Gand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9A34-2D78-41A7-B9FC-B89DDD31133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4"/>
          <p:cNvSpPr/>
          <p:nvPr/>
        </p:nvSpPr>
        <p:spPr>
          <a:xfrm>
            <a:off x="7460280" y="250992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1027800" y="161460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1433520" y="2346480"/>
            <a:ext cx="639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the power of love overcomes th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ve of power, the world will know pea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6683400" y="3708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Jimi Hend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60E6-0132-496C-BDBC-C037DC64DA86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4"/>
          <p:cNvSpPr/>
          <p:nvPr/>
        </p:nvSpPr>
        <p:spPr>
          <a:xfrm>
            <a:off x="7487280" y="252720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1129320" y="118728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293480" y="1941480"/>
            <a:ext cx="6557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country has been strip-mined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ch and powerful interests. If you don’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ke what they’re doing, don’t just sit ther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6645960" y="370836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Ralph N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3C0D-1462-47E9-B770-E90C12B1CFA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6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2745"/>
              </a:gs>
              <a:gs pos="100000">
                <a:srgbClr val="0055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4"/>
          <p:cNvSpPr/>
          <p:nvPr/>
        </p:nvSpPr>
        <p:spPr>
          <a:xfrm>
            <a:off x="7383240" y="28479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1278720" y="1127160"/>
            <a:ext cx="8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d9d9d9"/>
                </a:solidFill>
                <a:latin typeface="Arial"/>
              </a:rPr>
              <a:t>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295200" y="588960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               2                               3                              4                               5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3240" y="54021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ote abov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0" y="6222960"/>
            <a:ext cx="93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e        Seldom True          Sometimes True          Often True           Always True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1153440" y="1863720"/>
            <a:ext cx="683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men who create power make 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spensable contribution to the Nation’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eatness, but the men who question pow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a contribution just as indispensabl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3796200" y="397656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John F.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peech at Amherst College, 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22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D6FB-62DC-41F8-B0C7-73AA1C22B0A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853160" y="836640"/>
            <a:ext cx="415260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ection 1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respond to these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726080" y="2233440"/>
            <a:ext cx="402264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viewpoint did many colonial Americans hold about govern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is attitude continue to be held by contemporary Americ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there is a mistrust of govern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government a “necessary evil” or even necessary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GOV_SE_CH1_Page_02.jpg"/>
          <p:cNvPicPr/>
          <p:nvPr/>
        </p:nvPicPr>
        <p:blipFill>
          <a:blip r:embed="rId1"/>
          <a:srcRect l="0" t="0" r="3664" b="0"/>
          <a:stretch/>
        </p:blipFill>
        <p:spPr>
          <a:xfrm>
            <a:off x="0" y="608040"/>
            <a:ext cx="4572000" cy="6249960"/>
          </a:xfrm>
          <a:prstGeom prst="rect">
            <a:avLst/>
          </a:prstGeom>
          <a:ln w="0">
            <a:noFill/>
          </a:ln>
        </p:spPr>
      </p:pic>
      <p:sp>
        <p:nvSpPr>
          <p:cNvPr id="64" name="Line 20"/>
          <p:cNvSpPr/>
          <p:nvPr/>
        </p:nvSpPr>
        <p:spPr>
          <a:xfrm>
            <a:off x="4548240" y="596880"/>
            <a:ext cx="23760" cy="626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B24F-BC63-4E33-98A7-B860C02DAA1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475080" y="793800"/>
            <a:ext cx="5497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be playing a game in which you trade colored chips. Follow these rules to pl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AF40-ED29-48AC-8C4D-415291D2D98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3468600" y="1908000"/>
            <a:ext cx="5456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round, you will have two minutes to trade your chips. All tr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those in prog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top when the time is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rading, the student with the most points will be asked to make a rule for the next round. That rule will apply only to the next 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494160" y="4127400"/>
            <a:ext cx="54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randomly give you some chips of different colors to play the chip g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handcareds.jpg"/>
          <p:cNvPicPr/>
          <p:nvPr/>
        </p:nvPicPr>
        <p:blipFill>
          <a:blip r:embed="rId1"/>
          <a:stretch/>
        </p:blipFill>
        <p:spPr>
          <a:xfrm>
            <a:off x="295200" y="893880"/>
            <a:ext cx="2743200" cy="17460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3475080" y="793800"/>
            <a:ext cx="5497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: Roun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begin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210D-021B-4074-9CFF-D8B6F7C88C3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365040" y="1328760"/>
            <a:ext cx="938160" cy="1230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860400" y="2103480"/>
            <a:ext cx="938160" cy="12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1393920" y="2822400"/>
            <a:ext cx="938160" cy="123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1987560" y="3573360"/>
            <a:ext cx="938160" cy="12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827600" y="1990800"/>
            <a:ext cx="2989080" cy="3892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73920" y="1647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55280" y="603576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wo minut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270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3475080" y="793800"/>
            <a:ext cx="549756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: Roun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des must stop n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points to calculate the point value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chi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 = 1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 = 25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llow = 5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le = 10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has the most poi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e student with the most points will make a rule for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new rule cannot end all trading and will apply only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write this new rule on the board so everyone can see it. Remember, this new rule only applies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A5E0-8413-4E5D-9F0D-A1DCE3FCD32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65040" y="1328760"/>
            <a:ext cx="938160" cy="1230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860400" y="2103480"/>
            <a:ext cx="938160" cy="12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393920" y="2822400"/>
            <a:ext cx="938160" cy="123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1987560" y="3573360"/>
            <a:ext cx="938160" cy="12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860400" y="2212920"/>
            <a:ext cx="936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369720" y="1441440"/>
            <a:ext cx="936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395360" y="2922480"/>
            <a:ext cx="934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1990800" y="3683160"/>
            <a:ext cx="936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475080" y="793800"/>
            <a:ext cx="54975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: Rou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ay another round of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begin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des must stop n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y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has the most poi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e student with the most points will make a rule for the next round. The new rule cannot end all trading and will apply only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write this new rule on the board so everyone can see it. Remember, this new rule only applies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6ADD-23C1-4919-BB14-71AFD11C8A7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65040" y="1328760"/>
            <a:ext cx="938160" cy="1230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860400" y="2103480"/>
            <a:ext cx="938160" cy="12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393920" y="2822400"/>
            <a:ext cx="938160" cy="123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987560" y="3573360"/>
            <a:ext cx="938160" cy="12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3475080" y="793800"/>
            <a:ext cx="54975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: Roun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ay another round of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begin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des must stop n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y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has the most poi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e student with the most points will make a rule for the next round. The new rule cannot end all trading and will apply only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r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write this new rule on the board so everyone can see it. Remember, this new rule only applies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A9CD-8173-4864-83A1-065A8D4A8C2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65040" y="1328760"/>
            <a:ext cx="938160" cy="1230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860400" y="2103480"/>
            <a:ext cx="938160" cy="12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1393920" y="2822400"/>
            <a:ext cx="938160" cy="123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1987560" y="3573360"/>
            <a:ext cx="938160" cy="12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608040"/>
            <a:ext cx="3352680" cy="6249960"/>
          </a:xfrm>
          <a:prstGeom prst="rect">
            <a:avLst/>
          </a:prstGeom>
          <a:solidFill>
            <a:srgbClr val="c1c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73NN1934.jpg"/>
          <p:cNvPicPr/>
          <p:nvPr/>
        </p:nvPicPr>
        <p:blipFill>
          <a:blip r:embed="rId1"/>
          <a:stretch/>
        </p:blipFill>
        <p:spPr>
          <a:xfrm>
            <a:off x="295200" y="893880"/>
            <a:ext cx="2789280" cy="18399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4" name="Text Box 3"/>
          <p:cNvSpPr/>
          <p:nvPr/>
        </p:nvSpPr>
        <p:spPr>
          <a:xfrm>
            <a:off x="291960" y="95400"/>
            <a:ext cx="739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ential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10461600" y="35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475080" y="793800"/>
            <a:ext cx="549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write a brief summary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882C-6ADF-42F2-87C2-E37AFC107C9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556080" y="1819440"/>
            <a:ext cx="49608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ed to you during the g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ed in the class during the g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 this game was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is experience, how would you define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ight power be related to a course on American politics and govern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5:08:41Z</dcterms:created>
  <dc:creator>TCI  </dc:creator>
  <dc:description/>
  <dc:language>en-US</dc:language>
  <cp:lastModifiedBy>School District U46</cp:lastModifiedBy>
  <cp:lastPrinted>2007-08-24T20:48:01Z</cp:lastPrinted>
  <dcterms:modified xsi:type="dcterms:W3CDTF">2011-08-30T12:13:35Z</dcterms:modified>
  <cp:revision>918</cp:revision>
  <dc:subject/>
  <dc:title>PowerPoint Presentation</dc:title>
</cp:coreProperties>
</file>